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A5F-02E3-4BDD-AD50-E3EBAEDE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59A-DEDA-4D9C-B1D5-6570B034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ECBA-D8F6-4A53-BFEF-9238E0BD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940-440A-4C6C-A113-664F1A8B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B66F-89AC-43B1-9ACE-4924995E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A2A-F730-4EFA-9701-7F4804B4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EF69-B139-4347-9038-A12A4843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428-77B0-44F5-8A98-FC5C2F15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852-1350-4D4E-A533-1036B940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438-F87F-43C1-BAE9-F8DA14BD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C39-6595-4D50-85C0-13BCA115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D453-AEAF-458E-9771-583AD604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3C45-58D8-4D52-B323-8AB82A246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1:15:20Z</dcterms:created>
  <dc:creator>Profesor</dc:creator>
  <dc:description/>
  <dc:language>en-US</dc:language>
  <cp:lastModifiedBy>Profesor</cp:lastModifiedBy>
  <dcterms:modified xsi:type="dcterms:W3CDTF">2010-04-09T12:03:57Z</dcterms:modified>
  <cp:revision>3</cp:revision>
  <dc:subject/>
  <dc:title>Diapositiva 1</dc:title>
</cp:coreProperties>
</file>